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2284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5880" cy="36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895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93726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Num" idx="23"/>
          </p:nvPr>
        </p:nvSpPr>
        <p:spPr>
          <a:xfrm>
            <a:off x="3822840" y="9372240"/>
            <a:ext cx="2914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58D41-E695-43FD-BE52-9AD32C0A81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1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1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674640" y="4687920"/>
            <a:ext cx="5391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49E1-2C00-4C83-87E0-9FEE9D918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EF2E-745D-4596-9375-9822242A76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8668B-9308-4F17-B1AD-7ABBB9D35A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BDF7C7-2162-4A06-BF1D-D5164E42DC1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AD9ED-2334-49A0-BC85-0E678B8BCE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1391F-3F8E-4A27-A024-B4EDD385B1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83FC4A-5EEE-4493-8A45-898E2FE0E5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3A8BB6-8792-4584-9A48-C02661D5C9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519CD2-B20D-446D-A829-AD08312D38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27F7E-BD3D-43BB-B3F9-F74036CCFC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FBC7D-D42A-4357-B3AC-FF1D797EC87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6873-CAD1-4A09-8D52-B3D6425E8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4697-7A48-4E60-B59B-A14F526ECB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253C-CA8F-4052-9FEC-105A99CE77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942C-90AB-45FD-9683-6179ED07C8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B1DE-3218-4E9B-B66B-8E559BF2BC9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5414-89C1-412E-9AAF-9D24550DA3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204A-CE18-401C-A005-1BE9581567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0A480-C910-4C63-975D-774C08C233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48112-88E8-411D-98C0-40EB775C83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08FA-2075-4356-84D9-43CDF95A8D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48D1-B689-4CEF-A492-62CEEA1ACB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A866-509B-407D-8844-B4A6B270D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4D34-3978-4220-9041-592D3AE91A7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EB3C-0C53-4778-9BCB-9F05AED1FB0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04D80-39A7-47C5-B936-954BF84A8A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89736-58A9-4C78-94D7-95CE087010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A3057-7E21-466C-BB87-0EC7CCA48A1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C7AE5-D04E-49F9-8561-A75853C35A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C84E6-022B-4EBC-B4F3-6153F5FC0A9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0C5B7-B179-4131-991C-03B859BE164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4B2B8-CCC0-4E3A-86D2-C320F5E14C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3D002-B8BB-431B-B812-3A965949F1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B76A8-688A-4EA1-8DC1-4BC879D18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5A295-6384-4B64-A2A9-E223C3CFD0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C7250-B549-4566-9CD8-33AEC5A751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47540-14E9-4E6A-95F5-51416B58B0A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08B28-D1A7-42DB-8B06-3FCEF49F5DA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8B8C2-AF96-4338-8C13-5C9DA53BEC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39E45-6A6C-460B-A563-E5E9DD5F8E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615BD-DEE8-4387-B8F2-E758A2F790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8D8C3-8C72-4815-A310-E97F3A5016D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795D73-F0FA-49D3-92E0-DD2F726595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D1E93C-1E9F-4888-BCAF-EE471AB7F3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4CB8AD-930C-45C2-BD47-FE79712948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FA8D2-4C8C-4569-9E7B-FDD8C13883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5AB733-4B5B-4766-BE4F-001009D0C2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C3CAA0-5592-4215-B335-D40EA7AAA4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412052-4D12-4B10-A112-170C94AF6F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1FA1-7E36-418B-9364-F96A5DA5D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49B14-6C29-4A9A-AE4C-61BDC1D274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EA6F5-65CE-4966-8B03-A706D941F7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0DF97-FFA7-4ABB-912A-1F837EC63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F2F72-9624-4B3B-9B3E-101F1D4EF2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712A1-3006-4533-AC98-7B77768FC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839D-1969-40B8-802C-5343D83CCE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D65B2-11E6-48B7-9F4A-7A445016F8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D22B0-3EEB-4C00-9041-CB92ED39FF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61033-9824-44C6-98CA-8827BFC08B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2CC9E-E3CA-4C7B-A44A-B171849F4D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7FCC9-1FEE-4712-A711-CF1CBB6727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773AE-9BDD-4FCA-9479-55863D43A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28346-C64F-40DF-9BE3-5AB71BC2F6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3513-DB2A-40F7-BA04-4AF6A64D4F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D945-8836-4DB4-B3E7-EBC069E8B3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4CD-7A45-449E-BD4B-E31AA30BB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1473-A2A8-4810-90A9-BBE4B26E28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9C16-2B23-4CC0-A06E-5B26CF4F76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0516-C21F-468C-9F91-3A4A62DB49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29C3-789D-41BD-A2D4-DAD9D36213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5C08-A3CD-4D00-BBBB-3729DECCC0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E29D-223C-407B-B22E-470FC74CAB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07D7-5AFD-4FFF-BEA2-CDD96D7228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7F04-650A-4397-98C8-43241FFF0F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75F9-9D7A-415B-BE09-B3178695DE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A0A8-A778-4A63-9DA5-EF6235A0779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257B8-016E-41C8-8822-272691B09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CE7F-BA11-4463-9850-974859E936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ED294-6442-4476-8EA5-2F8FA70707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ABADC-3755-4520-ABA0-9842A0D2D3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7B725-CECD-446D-9A4B-3A2CB57831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84D97-5981-4B8C-91D5-A5DF70F450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62C81-7168-4DEF-901E-1C9A4AA5AE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AB561-F937-40CF-8DB4-1E7F7A7043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77F3A-694E-4EEF-8BF4-A9E07AE75C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F80E1-A406-4A51-BE63-1767B6508D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32417-D1C8-4A93-8301-B8EDF9B225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E50E3-D9C2-450C-951A-EC3C504CF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AA7B-C6E8-49D3-BC7F-9A68673545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DB8AA-44B9-4A52-81D9-8EC39EE07D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05D4F-F85E-4456-8E11-67108B5996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F3040-423A-4DF6-86D2-88AF4DCAF3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C30A2-1408-4D83-B320-0209F74998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0E6E0-718E-4903-8C01-65CB4C65C2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358B6-2D8E-41A8-B78D-5CF54FD1C89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F31B0-7280-4703-A284-693663FA2B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A133D-FF5A-4AC7-947A-A13C977C70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B970E-47CF-4463-BE94-4D0CD9D923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A63AE-9665-4E97-B888-39DCF343C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B86D-4337-4837-A0AA-AB3F8FE621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CD10B-86BC-4A38-86B6-242D7F01D5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0C027-59B9-4F5F-B96F-26AEC32A34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25ADE-1B4C-4BC8-9FCD-779B11E0170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52C7-2535-404B-8811-46105FB946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811F-977E-4C34-8A67-594E24E92B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B623-51ED-46AA-BA6C-95CAC67929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EFC1-CEB9-4762-890F-2AECC23C19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D475-4881-4288-B39B-0A37304C47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61FE-DEA1-43B7-9437-F4EA16B15D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65C5-62C9-4BD3-B837-7DAFFFB81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5817-888F-4B1D-812D-EDF8C81CD5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4AB6-26BB-4BFB-9044-35932F5E98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5F93-CB34-4690-A482-6C003C3AEE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B63D-D995-4193-BC24-6401724301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7D66-9C2F-4BDE-84E2-37C321FAF8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F566-B37A-4772-8AE1-679E738691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326B9-502E-4A56-876F-238DC766B67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22349-38F4-454A-8228-F472FC7D57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627FB-6711-4A35-9BE7-472D7AE886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75E14-31B9-47B3-958A-831DD834EB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539CF-49C7-47CE-BB51-C692BF349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2377-8FC0-43C4-8757-0316EB90E3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262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74A33-0D15-420A-8781-D5C32C29F8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B7538-9814-4C3F-843A-2133B9CC9C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07746-8D0B-4B78-AE1D-4FEF0A5E18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CEAEC-25C1-426B-846E-F0CE1107F8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600" y="3806280"/>
            <a:ext cx="85820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971C5-5F6D-48E8-AEDD-83E8DE051E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3360" y="97452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60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3360" y="3806280"/>
            <a:ext cx="418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8F025-43EA-4B2F-BF56-E3F9914FC0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472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48800" y="97452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6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472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48800" y="3806280"/>
            <a:ext cx="27630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5DBC4-5596-4F32-939D-FC854A7FC3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5043A9-CFD4-4158-849B-BA085A77E7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09BD3-F58F-4EAD-9E91-0A6D037B5E8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830B4-9BAB-4397-B8D9-4DAD1440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16BC2-91E3-4B46-845D-E59864E880D5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45AE8-23E5-413F-9AA1-BFE882CA3BD9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2D755-ECFD-400A-869A-BBAD8841E7C0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C9DAF-0781-4558-BCFA-0748A6F1F6B8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Apr. 25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0720" y="1065240"/>
            <a:ext cx="510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Grid Computing Hands On Training for Users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B21E9-89BB-45EF-AFC3-C31DA2CA3DE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AE34E-B9B7-4140-97BD-A4FD87C659B3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728CF-D10E-476F-B2EC-7666ABB985F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36030-A1B2-46E1-B610-33D86ECC79F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4C580-F4DB-4D43-A323-1017FFE15599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FC190-A9EF-4141-A034-7C58FB9AEA3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204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262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640" y="6559200"/>
            <a:ext cx="6694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560" y="6562440"/>
            <a:ext cx="462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4929C-DB80-4EBC-B453-BBE515A29B82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757520"/>
            <a:ext cx="651816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PARAMETRIC JOB SUBMISSION</a:t>
            </a:r>
            <a:endParaRPr b="0" lang="en-US" sz="32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Branimir Ackovic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acko@scl.rs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5680" y="1951200"/>
            <a:ext cx="6518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parametric job jdl – type 1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1143000"/>
            <a:ext cx="868680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Type = "Job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JobType = "Parametric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Executable = "/bin/echo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Arguments = "_PARAM_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Parameters = {red, green, blue}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StdOutput = "colour_PARAM_.txt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StdError = "error_PARAM_.txt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OutputSandbox = {"colour_PARAM_.txt","error_PARAM_.txt"}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254320" y="66600"/>
            <a:ext cx="67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A5DB6-140B-4E5B-B5FA-3DFA2A81D75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157320"/>
            <a:ext cx="5486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parametric job jdl – type 2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5280" y="1287360"/>
            <a:ext cx="850752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Type = "Job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JobType = "parametric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Executable = "exec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StdInput = "input_PARAM_.txt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StdOutput = "output_PARAM_.txt"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Parameters = 10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ParameterStart = 1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ParameterStep = 1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InputSandbox = {"&lt;exec&gt;", "&lt;param_file&gt;"}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OutputSandbox = {"output_PARAM_.txt"};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Grid Computing Hands On Training for Users</cp:keywords>
  <dc:language>en-US</dc:language>
  <cp:lastModifiedBy>Dusan Vudragovic</cp:lastModifiedBy>
  <cp:lastPrinted>2009-01-23T08:59:10Z</cp:lastPrinted>
  <dcterms:modified xsi:type="dcterms:W3CDTF">2009-04-24T15:16:45Z</dcterms:modified>
  <cp:revision>35</cp:revision>
  <dc:subject/>
  <dc:title>Grid Computing Hands On Training for Users</dc:title>
</cp:coreProperties>
</file>